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E61-CDFE-40D6-9C62-2081F064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FA5-202B-4123-BDFF-BF92A7AB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23E-F5B4-4552-A5FD-6B362B24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905-3C35-4A69-AB48-DEA8BDA8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47CD-2865-420F-A70E-10295084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D72-1732-4D85-815B-1109AED9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133-5F91-40C0-B39E-54A2E453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B50-4BD7-4DDB-A9E2-A306A51C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1992-A298-4D81-93E3-5BF8C351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6CA-AD5C-496C-8874-AB00F6A7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6A8-1E28-47C3-9790-D7B46C68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AE9E-3C52-4EAF-91B8-055730D8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778E-A96F-4101-A6F8-FF4C0F75D0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9.wm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1628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第十四章                 复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08600" y="155268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468360" y="-27000"/>
            <a:ext cx="5183280" cy="996840"/>
            <a:chOff x="468360" y="-27000"/>
            <a:chExt cx="5183280" cy="996840"/>
          </a:xfrm>
        </p:grpSpPr>
        <p:sp>
          <p:nvSpPr>
            <p:cNvPr id="149" name=""/>
            <p:cNvSpPr/>
            <p:nvPr/>
          </p:nvSpPr>
          <p:spPr>
            <a:xfrm>
              <a:off x="468360" y="187920"/>
              <a:ext cx="518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8006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取哪些值时，                         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0" name=""/>
            <p:cNvGraphicFramePr/>
            <p:nvPr/>
          </p:nvGraphicFramePr>
          <p:xfrm>
            <a:off x="2997360" y="-27000"/>
            <a:ext cx="1935000" cy="99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7360" y="-27000"/>
                      <a:ext cx="1935000" cy="99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2" name=""/>
          <p:cNvGrpSpPr/>
          <p:nvPr/>
        </p:nvGrpSpPr>
        <p:grpSpPr>
          <a:xfrm>
            <a:off x="395280" y="1190520"/>
            <a:ext cx="4202280" cy="587520"/>
            <a:chOff x="395280" y="1190520"/>
            <a:chExt cx="4202280" cy="587520"/>
          </a:xfrm>
        </p:grpSpPr>
        <p:sp>
          <p:nvSpPr>
            <p:cNvPr id="153" name=""/>
            <p:cNvSpPr/>
            <p:nvPr/>
          </p:nvSpPr>
          <p:spPr>
            <a:xfrm>
              <a:off x="395280" y="125136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8006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、解不等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4" name=""/>
            <p:cNvGraphicFramePr/>
            <p:nvPr/>
          </p:nvGraphicFramePr>
          <p:xfrm>
            <a:off x="2340000" y="1190520"/>
            <a:ext cx="2257560" cy="587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340000" y="1190520"/>
                      <a:ext cx="2257560" cy="58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56" name=""/>
          <p:cNvGraphicFramePr/>
          <p:nvPr/>
        </p:nvGraphicFramePr>
        <p:xfrm>
          <a:off x="6156360" y="44280"/>
          <a:ext cx="132084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44280"/>
                    <a:ext cx="13208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8" name=""/>
          <p:cNvGrpSpPr/>
          <p:nvPr/>
        </p:nvGrpSpPr>
        <p:grpSpPr>
          <a:xfrm>
            <a:off x="1212840" y="1981800"/>
            <a:ext cx="2592360" cy="459720"/>
            <a:chOff x="1212840" y="1981800"/>
            <a:chExt cx="2592360" cy="459720"/>
          </a:xfrm>
        </p:grpSpPr>
        <p:sp>
          <p:nvSpPr>
            <p:cNvPr id="159" name=""/>
            <p:cNvSpPr/>
            <p:nvPr/>
          </p:nvSpPr>
          <p:spPr>
            <a:xfrm>
              <a:off x="1212840" y="198180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8006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当                   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0" name=""/>
            <p:cNvGraphicFramePr/>
            <p:nvPr/>
          </p:nvGraphicFramePr>
          <p:xfrm>
            <a:off x="1860480" y="1990800"/>
            <a:ext cx="1025640" cy="411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60480" y="1990800"/>
                      <a:ext cx="1025640" cy="41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2" name=""/>
          <p:cNvGraphicFramePr/>
          <p:nvPr/>
        </p:nvGraphicFramePr>
        <p:xfrm>
          <a:off x="1212840" y="2558880"/>
          <a:ext cx="2374920" cy="47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2840" y="2558880"/>
                    <a:ext cx="237492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549520" y="2990880"/>
          <a:ext cx="968400" cy="41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49520" y="2990880"/>
                    <a:ext cx="9684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465200" y="4114800"/>
          <a:ext cx="2494080" cy="469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65200" y="4114800"/>
                    <a:ext cx="24940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4672080" y="1935720"/>
            <a:ext cx="2592360" cy="459720"/>
            <a:chOff x="4672080" y="1935720"/>
            <a:chExt cx="2592360" cy="459720"/>
          </a:xfrm>
        </p:grpSpPr>
        <p:sp>
          <p:nvSpPr>
            <p:cNvPr id="169" name=""/>
            <p:cNvSpPr/>
            <p:nvPr/>
          </p:nvSpPr>
          <p:spPr>
            <a:xfrm>
              <a:off x="4672080" y="193572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8006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当                   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5319720" y="1944720"/>
            <a:ext cx="1025640" cy="4111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319720" y="1944720"/>
                      <a:ext cx="1025640" cy="41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72" name=""/>
          <p:cNvGraphicFramePr/>
          <p:nvPr/>
        </p:nvGraphicFramePr>
        <p:xfrm>
          <a:off x="4452840" y="2416320"/>
          <a:ext cx="2814840" cy="587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52840" y="2416320"/>
                    <a:ext cx="281484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243480" y="2874960"/>
          <a:ext cx="879480" cy="909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43480" y="2874960"/>
                    <a:ext cx="8794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5467320" y="3808440"/>
          <a:ext cx="1554120" cy="911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467320" y="3808440"/>
                    <a:ext cx="15541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708360" y="5950080"/>
          <a:ext cx="1189080" cy="511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08360" y="5950080"/>
                    <a:ext cx="11890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611280" y="5373720"/>
            <a:ext cx="7432560" cy="528480"/>
            <a:chOff x="611280" y="5373720"/>
            <a:chExt cx="7432560" cy="528480"/>
          </a:xfrm>
        </p:grpSpPr>
        <p:sp>
          <p:nvSpPr>
            <p:cNvPr id="181" name=""/>
            <p:cNvSpPr/>
            <p:nvPr/>
          </p:nvSpPr>
          <p:spPr>
            <a:xfrm>
              <a:off x="611280" y="5518080"/>
              <a:ext cx="743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6704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25480" y="5533920"/>
              <a:ext cx="493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                               2.5                             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4036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5520" y="537372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886040" y="4991040"/>
            <a:ext cx="4460760" cy="576360"/>
            <a:chOff x="1886040" y="4991040"/>
            <a:chExt cx="4460760" cy="576360"/>
          </a:xfrm>
        </p:grpSpPr>
        <p:sp>
          <p:nvSpPr>
            <p:cNvPr id="187" name=""/>
            <p:cNvSpPr/>
            <p:nvPr/>
          </p:nvSpPr>
          <p:spPr>
            <a:xfrm>
              <a:off x="1886040" y="54147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57320" y="4991040"/>
              <a:ext cx="4319640" cy="431640"/>
            </a:xfrm>
            <a:custGeom>
              <a:avLst/>
              <a:gdLst/>
              <a:ahLst/>
              <a:rect l="l" t="t" r="r" b="b"/>
              <a:pathLst>
                <a:path w="2767" h="272">
                  <a:moveTo>
                    <a:pt x="0" y="272"/>
                  </a:moveTo>
                  <a:lnTo>
                    <a:pt x="0" y="0"/>
                  </a:lnTo>
                  <a:lnTo>
                    <a:pt x="2767" y="0"/>
                  </a:lnTo>
                  <a:lnTo>
                    <a:pt x="2767" y="2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94520" y="5414760"/>
              <a:ext cx="152280" cy="15264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08000" y="4991040"/>
            <a:ext cx="4103640" cy="525240"/>
            <a:chOff x="108000" y="4991040"/>
            <a:chExt cx="4103640" cy="525240"/>
          </a:xfrm>
        </p:grpSpPr>
        <p:sp>
          <p:nvSpPr>
            <p:cNvPr id="191" name=""/>
            <p:cNvSpPr/>
            <p:nvPr/>
          </p:nvSpPr>
          <p:spPr>
            <a:xfrm>
              <a:off x="108000" y="4991040"/>
              <a:ext cx="4024080" cy="409320"/>
            </a:xfrm>
            <a:custGeom>
              <a:avLst/>
              <a:gdLst/>
              <a:ahLst/>
              <a:rect l="l" t="t" r="r" b="b"/>
              <a:pathLst>
                <a:path w="1248" h="192">
                  <a:moveTo>
                    <a:pt x="1248" y="192"/>
                  </a:moveTo>
                  <a:lnTo>
                    <a:pt x="124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59360" y="5382360"/>
              <a:ext cx="152280" cy="133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86000" y="17175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333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章学习了那些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765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举出用分式表示现实生活中的数量关系的实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说明分式的特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2421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式分母中的字母取怎样的值时，分式有意义？举例说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386064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举例说明分式的基本性质，并说明它在分式运算中的作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7650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式的基本性质、分式的运算（加、减、乘、除）法则是怎样获得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谈谈你的体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中的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、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为例，分别说明怎样进行分式的加、减、乘、除运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8606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式与分数有哪些异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333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章学习了那些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1125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式的概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2276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式的基本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58920" y="33577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约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3357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276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式的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3429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式的乘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4290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式的加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24360" y="1628640"/>
            <a:ext cx="0" cy="432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3860640"/>
            <a:ext cx="3240000" cy="863640"/>
          </a:xfrm>
          <a:custGeom>
            <a:avLst/>
            <a:gdLst/>
            <a:ahLst/>
            <a:rect l="l" t="t" r="r" b="b"/>
            <a:pathLst>
              <a:path w="2041" h="544">
                <a:moveTo>
                  <a:pt x="2041" y="0"/>
                </a:moveTo>
                <a:lnTo>
                  <a:pt x="2041" y="544"/>
                </a:lnTo>
                <a:lnTo>
                  <a:pt x="0" y="54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2781360"/>
            <a:ext cx="0" cy="431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80000" y="2781360"/>
            <a:ext cx="0" cy="431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3789360"/>
            <a:ext cx="3600360" cy="647640"/>
          </a:xfrm>
          <a:custGeom>
            <a:avLst/>
            <a:gdLst/>
            <a:ahLst/>
            <a:rect l="l" t="t" r="r" b="b"/>
            <a:pathLst>
              <a:path w="2041" h="544">
                <a:moveTo>
                  <a:pt x="2041" y="0"/>
                </a:moveTo>
                <a:lnTo>
                  <a:pt x="2041" y="544"/>
                </a:lnTo>
                <a:lnTo>
                  <a:pt x="0" y="54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3716280"/>
            <a:ext cx="4968720" cy="433440"/>
          </a:xfrm>
          <a:custGeom>
            <a:avLst/>
            <a:gdLst/>
            <a:ahLst/>
            <a:rect l="l" t="t" r="r" b="b"/>
            <a:pathLst>
              <a:path w="2041" h="544">
                <a:moveTo>
                  <a:pt x="2041" y="0"/>
                </a:moveTo>
                <a:lnTo>
                  <a:pt x="2041" y="544"/>
                </a:lnTo>
                <a:lnTo>
                  <a:pt x="0" y="54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 rot="16200000">
            <a:off x="3888360" y="512280"/>
            <a:ext cx="73080" cy="3313440"/>
          </a:xfrm>
          <a:custGeom>
            <a:avLst/>
            <a:gdLst>
              <a:gd name="textAreaLeft" fmla="*/ 46440 w 73080"/>
              <a:gd name="textAreaRight" fmla="*/ 73080 w 73080"/>
              <a:gd name="textAreaTop" fmla="*/ 86400 h 3313440"/>
              <a:gd name="textAreaBottom" fmla="*/ 3227040 h 331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 rot="16200000">
            <a:off x="2266200" y="2492640"/>
            <a:ext cx="73080" cy="1511640"/>
          </a:xfrm>
          <a:custGeom>
            <a:avLst/>
            <a:gdLst>
              <a:gd name="textAreaLeft" fmla="*/ 46440 w 73080"/>
              <a:gd name="textAreaRight" fmla="*/ 73080 w 73080"/>
              <a:gd name="textAreaTop" fmla="*/ 39240 h 1511640"/>
              <a:gd name="textAreaBottom" fmla="*/ 1472400 h 15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 rot="16200000">
            <a:off x="5795640" y="2564280"/>
            <a:ext cx="73080" cy="1511280"/>
          </a:xfrm>
          <a:custGeom>
            <a:avLst/>
            <a:gdLst>
              <a:gd name="textAreaLeft" fmla="*/ 46440 w 73080"/>
              <a:gd name="textAreaRight" fmla="*/ 73080 w 73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476360" y="1628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分式   重要题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258920" y="44280"/>
          <a:ext cx="134784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4280"/>
                    <a:ext cx="13478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4920" y="44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0" y="2349360"/>
          <a:ext cx="6084720" cy="8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349360"/>
                    <a:ext cx="6084720" cy="8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0" y="3392640"/>
          <a:ext cx="1514520" cy="76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392640"/>
                    <a:ext cx="15145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1477800" y="3405240"/>
          <a:ext cx="1870200" cy="75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7800" y="3405240"/>
                    <a:ext cx="18702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156120" y="1008000"/>
          <a:ext cx="2136600" cy="90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56120" y="1008000"/>
                    <a:ext cx="2136600" cy="9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068480" y="979560"/>
          <a:ext cx="1962000" cy="96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68480" y="979560"/>
                    <a:ext cx="1962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711520" y="44280"/>
          <a:ext cx="2930400" cy="96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11520" y="44280"/>
                    <a:ext cx="29304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867280" y="44280"/>
          <a:ext cx="1495440" cy="968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867280" y="44280"/>
                    <a:ext cx="149544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278400" y="3392640"/>
          <a:ext cx="2541600" cy="760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78400" y="3392640"/>
                    <a:ext cx="254160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3348000" y="3606840"/>
          <a:ext cx="490680" cy="245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48000" y="3606840"/>
                    <a:ext cx="490680" cy="2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851280" y="3367080"/>
          <a:ext cx="2428920" cy="760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851280" y="3367080"/>
                    <a:ext cx="24289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4920" y="4325760"/>
          <a:ext cx="1671480" cy="694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920" y="4325760"/>
                    <a:ext cx="1671480" cy="6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5440" y="5138640"/>
          <a:ext cx="1560600" cy="738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5440" y="5138640"/>
                    <a:ext cx="156060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4920" y="442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窗户的面积与地面面积的比值越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采光条件越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04000" y="1341360"/>
          <a:ext cx="2136960" cy="90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1341360"/>
                    <a:ext cx="2136960" cy="9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340000" y="765000"/>
          <a:ext cx="40968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765000"/>
                    <a:ext cx="40968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500720" y="765000"/>
          <a:ext cx="936360" cy="90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765000"/>
                    <a:ext cx="9363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79280" y="18302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差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9079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981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2637000"/>
          <a:ext cx="1581120" cy="90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2637000"/>
                    <a:ext cx="158112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792440" y="2637000"/>
          <a:ext cx="3190680" cy="96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92440" y="2637000"/>
                    <a:ext cx="3190680" cy="9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076720" y="2611440"/>
          <a:ext cx="1581120" cy="968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720" y="2611440"/>
                    <a:ext cx="1581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676920" y="2625840"/>
          <a:ext cx="1640160" cy="96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76920" y="2625840"/>
                    <a:ext cx="16401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8335800" y="2898720"/>
          <a:ext cx="557280" cy="411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335800" y="2898720"/>
                    <a:ext cx="5572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393372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017720" y="3814920"/>
          <a:ext cx="1609560" cy="909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17720" y="3814920"/>
                    <a:ext cx="160956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54200" y="6838920"/>
          <a:ext cx="409320" cy="909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4200" y="6838920"/>
                    <a:ext cx="4093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4920" y="478152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能达到目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227640" y="5013360"/>
          <a:ext cx="2136960" cy="90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5013360"/>
                    <a:ext cx="213696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013200" y="84240"/>
          <a:ext cx="105408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13200" y="84240"/>
                    <a:ext cx="10540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967040" y="25239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车完成用的时间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076720" y="4508640"/>
          <a:ext cx="1581120" cy="96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4508640"/>
                    <a:ext cx="15811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676920" y="3562200"/>
          <a:ext cx="1640160" cy="96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76920" y="3562200"/>
                    <a:ext cx="16401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335800" y="3835440"/>
          <a:ext cx="557280" cy="41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35800" y="3835440"/>
                    <a:ext cx="55728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0" y="487044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17720" y="4751280"/>
          <a:ext cx="1609560" cy="909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17720" y="4751280"/>
                    <a:ext cx="16095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54200" y="7775640"/>
          <a:ext cx="409320" cy="909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54200" y="7775640"/>
                    <a:ext cx="40932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4920" y="571824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能达到目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0360" y="333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车完成用的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164360" y="157320"/>
          <a:ext cx="642960" cy="968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4360" y="157320"/>
                    <a:ext cx="642960" cy="96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03320" y="1197000"/>
          <a:ext cx="3747960" cy="968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3320" y="1197000"/>
                    <a:ext cx="37479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08000" y="2565360"/>
          <a:ext cx="1787400" cy="4986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8000" y="2565360"/>
                    <a:ext cx="178740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967040" y="33940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车完成用的时间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08000" y="3435480"/>
          <a:ext cx="1787400" cy="498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8000" y="3435480"/>
                    <a:ext cx="178740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06:34:07Z</dcterms:created>
  <dc:creator/>
  <dc:description/>
  <cp:keywords/>
  <dc:language>en-US</dc:language>
  <cp:lastModifiedBy>微软用户</cp:lastModifiedBy>
  <dcterms:modified xsi:type="dcterms:W3CDTF">2011-04-18T03:02:09Z</dcterms:modified>
  <cp:revision>42</cp:revision>
  <dc:subject> </dc:subject>
  <dc:title/>
</cp:coreProperties>
</file>